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  <p:custShowLst>
    <p:custShow name="STP" id="0">
      <p:sldLst>
        <p:sld r:id="rId20"/>
        <p:sld r:id="rId26"/>
        <p:sld r:id="rId15"/>
        <p:sld r:id="rId16"/>
        <p:sld r:id="rId17"/>
        <p:sld r:id="rId31"/>
        <p:sld r:id="rId32"/>
        <p:sld r:id="rId33"/>
        <p:sld r:id="rId36"/>
      </p:sldLst>
    </p:custShow>
    <p:custShow name="Transparencies" id="1">
      <p:sldLst>
        <p:sld r:id="rId22"/>
        <p:sld r:id="rId30"/>
        <p:sld r:id="rId44"/>
      </p:sldLst>
    </p:custShow>
    <p:custShow name="Chapter" id="2">
      <p:sldLst>
        <p:sld r:id="rId18"/>
        <p:sld r:id="rId19"/>
        <p:sld r:id="rId21"/>
        <p:sld r:id="rId22"/>
        <p:sld r:id="rId23"/>
        <p:sld r:id="rId24"/>
        <p:sld r:id="rId25"/>
        <p:sld r:id="rId27"/>
        <p:sld r:id="rId28"/>
        <p:sld r:id="rId29"/>
        <p:sld r:id="rId30"/>
        <p:sld r:id="rId34"/>
        <p:sld r:id="rId35"/>
        <p:sld r:id="rId37"/>
        <p:sld r:id="rId39"/>
        <p:sld r:id="rId44"/>
      </p:sldLst>
    </p:custShow>
    <p:custShow name="Section 1" id="3">
      <p:sldLst>
        <p:sld r:id="rId18"/>
        <p:sld r:id="rId19"/>
        <p:sld r:id="rId21"/>
        <p:sld r:id="rId22"/>
        <p:sld r:id="rId23"/>
        <p:sld r:id="rId24"/>
        <p:sld r:id="rId25"/>
      </p:sldLst>
    </p:custShow>
    <p:custShow name="Section 2" id="4">
      <p:sldLst>
        <p:sld r:id="rId27"/>
        <p:sld r:id="rId28"/>
        <p:sld r:id="rId29"/>
        <p:sld r:id="rId30"/>
        <p:sld r:id="rId34"/>
        <p:sld r:id="rId35"/>
        <p:sld r:id="rId37"/>
        <p:sld r:id="rId39"/>
        <p:sld r:id="rId4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468-4789-429A-99C8-EE8546F0056C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CBD-62E2-49C4-92BE-8307524E2342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9C48-E07E-4FB2-9912-7699F56D2152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AC0D-AFAE-4688-92BD-E972E28CAF8B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9F4-5CB4-4D4F-A58E-C2364C4994A4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99F-1CA7-4A38-997E-F2E76333A8C7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EFE-CA8B-4F76-9DA7-A00E99F972F3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ED96-F935-4ECD-9C33-D4AEE7E39516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4BD-4F95-4C65-932A-7146C277D9DC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1E6-FD23-4EB0-BD2E-C5F8B7740FE0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809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4410000" y="-152280"/>
            <a:ext cx="4734000" cy="3809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3"/>
          <a:stretch/>
        </p:blipFill>
        <p:spPr>
          <a:xfrm>
            <a:off x="0" y="3363840"/>
            <a:ext cx="4876920" cy="3494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4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ndel’s Results and Conclusion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1136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Law of Independent Assortmen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w of independent assor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tes that factors for individual characteristics are distributed to gametes independent of one anothe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independent assortment is observed only for genes that are located on different chromosomes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remember the homologous chromosomes line up is random and crossing over can occur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pport for Mendel’s Conclus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ndel’s fa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alternative forms of a ge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llele for each trait is passed from each parent to the offspri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IT or GE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Color of flow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urple and whi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undamental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711360" y="1523880"/>
            <a:ext cx="77724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tween the genotype and the phenotype of an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probability is used to predict the results of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unnett square to predict the results of monohybrid and dihybrid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a testcross is used to show the genotype of an individual whose phenotype expresses the dominant tr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monohybrid cross from a dihybrid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tic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eno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ppearance of an organism, like purple or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otyp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genetic makeup of an organism, the all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eterozyg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two different alleles (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mozyg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wo alleles are the same (dominant – PP or recessive - p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57200" y="1676520"/>
            <a:ext cx="82296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babilit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likelihood that a specific event will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ability may be expressed as a decimal, a percentage, or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unnett squ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used to predict the outcome of genetic cro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ross in which one characteristic is tracked is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nohybrid cro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hybrid Cross of Heterozygous Pla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1" descr="p89"/>
          <p:cNvPicPr/>
          <p:nvPr/>
        </p:nvPicPr>
        <p:blipFill>
          <a:blip r:embed="rId2"/>
          <a:stretch/>
        </p:blipFill>
        <p:spPr>
          <a:xfrm>
            <a:off x="4240080" y="912960"/>
            <a:ext cx="444204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0" y="0"/>
            <a:ext cx="9144000" cy="1758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abbits the allele for black coat color (B) is dominant over the allele for brown coat color (b).  What is the genotypic ratio and phenotypic ratio be for a cross between a  homozygous black rabbit and homozygous brown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438280" y="1405080"/>
            <a:ext cx="1181160" cy="866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4952880" y="1405080"/>
            <a:ext cx="947880" cy="9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0" name=""/>
          <p:cNvGraphicFramePr/>
          <p:nvPr/>
        </p:nvGraphicFramePr>
        <p:xfrm>
          <a:off x="3233880" y="4191120"/>
          <a:ext cx="2666880" cy="1981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"/>
          <p:cNvSpPr/>
          <p:nvPr/>
        </p:nvSpPr>
        <p:spPr>
          <a:xfrm>
            <a:off x="0" y="0"/>
            <a:ext cx="9144000" cy="23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(W) hair in sheep is caused by the dominant gene while black (w) hair is recessive.  A heterozygous white male and a black female are parents of a black lamb.  What is the probability that their next lamb will be white?  What are the genotypic and phenotypic rat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676520" y="140508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5181480" y="1405080"/>
            <a:ext cx="146376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2724120" y="4191120"/>
          <a:ext cx="2819520" cy="20574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2"/>
          <p:cNvSpPr/>
          <p:nvPr/>
        </p:nvSpPr>
        <p:spPr>
          <a:xfrm>
            <a:off x="0" y="0"/>
            <a:ext cx="9144000" cy="20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umans, polydactyly (an extra finger on each hand or toe on each foot) is due to a dominant gene.  When one parent is polydactylous, but heterozygous, and the other parent is normal, what are the genotypic and phenotypic ratios of their children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847800" y="1241280"/>
            <a:ext cx="1238040" cy="10098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6286680" y="1193760"/>
            <a:ext cx="981000" cy="1276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3"/>
          <a:stretch/>
        </p:blipFill>
        <p:spPr>
          <a:xfrm>
            <a:off x="2486160" y="1241280"/>
            <a:ext cx="1057320" cy="1229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7267680" y="1241280"/>
            <a:ext cx="119052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0" name=""/>
          <p:cNvGraphicFramePr/>
          <p:nvPr/>
        </p:nvGraphicFramePr>
        <p:xfrm>
          <a:off x="3200400" y="4191120"/>
          <a:ext cx="2666880" cy="1981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undamental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stcr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 which an individual of unknown genotype is crossed with a homozygous recessive individual, can be used to determine the genotype of an individual whose phenotype expresses the dominant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complete dominan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r more alleles influence the phenotype and results in a phenotype are intermediates between the dominant trait and the recessive trait (so there is a blending of alle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35268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29560"/>
          </a:xfrm>
          <a:prstGeom prst="rect">
            <a:avLst/>
          </a:prstGeom>
          <a:ln w="0">
            <a:noFill/>
          </a:ln>
        </p:spPr>
      </p:pic>
      <p:sp>
        <p:nvSpPr>
          <p:cNvPr id="613" name="TextBox 2"/>
          <p:cNvSpPr/>
          <p:nvPr/>
        </p:nvSpPr>
        <p:spPr>
          <a:xfrm>
            <a:off x="5334120" y="762120"/>
            <a:ext cx="3429000" cy="84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Red snapdragon is crossed with pink snapdragon, what are the possible genotypes and phenotyp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Pink snapdragon is crossed with white snapdragon, what are the possible genotypes and phenotyp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dominan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both alleles for a gene are expressed in a heterozygous offsp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 = Bl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W = Black and Wh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 =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a black male with a black and white female, determine the possible genotype and phenotypes for the offsp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2"/>
          <p:cNvSpPr/>
          <p:nvPr/>
        </p:nvSpPr>
        <p:spPr>
          <a:xfrm>
            <a:off x="0" y="0"/>
            <a:ext cx="91440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olving Genetic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ability and Genetics: already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complete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ulti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. more than just two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 Examples: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at Color in Chinch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0" y="-1371600"/>
            <a:ext cx="90756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3"/>
          <p:cNvSpPr/>
          <p:nvPr/>
        </p:nvSpPr>
        <p:spPr>
          <a:xfrm>
            <a:off x="0" y="32767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a Light Gray Chinchilla 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a Himalayan 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hinchilla, what are the possible genotypes and phenotyp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609480" y="731880"/>
            <a:ext cx="8026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dicting Results of Dihybrid Cr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609480" y="14479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hybrid cro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raits are tracked at the same tim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R) is dominant to wrinkled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(G) is dominant to yellow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zygous round yellow pea plant is crossed with wrinkled homozygous green pea plant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   x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762120" y="1600200"/>
          <a:ext cx="6095880" cy="3657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628" name="TextBox 2"/>
          <p:cNvSpPr/>
          <p:nvPr/>
        </p:nvSpPr>
        <p:spPr>
          <a:xfrm>
            <a:off x="6858000" y="838080"/>
            <a:ext cx="19810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1"/>
          <p:cNvSpPr/>
          <p:nvPr/>
        </p:nvSpPr>
        <p:spPr>
          <a:xfrm>
            <a:off x="457200" y="1219320"/>
            <a:ext cx="8686800" cy="89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R) is dominant to wrinkled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(G) is dominant to yellow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zygous round heterozygous green pea plant is crossed with Heterozygous round heterozygous green pea plant 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______   x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762120" y="1600200"/>
          <a:ext cx="6095880" cy="3657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631" name="TextBox 2"/>
          <p:cNvSpPr/>
          <p:nvPr/>
        </p:nvSpPr>
        <p:spPr>
          <a:xfrm>
            <a:off x="6858000" y="1371600"/>
            <a:ext cx="19810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0" y="0"/>
            <a:ext cx="9144000" cy="286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zygous round heterozygous green pea plant is crossed with Heterozygous round heterozygous green pea plant 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______   x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475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380880" y="838080"/>
            <a:ext cx="8763120" cy="9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Principles of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Origin of Ge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ndel’s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Mendel’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Mendel’s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Gene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Punnett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.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. Hom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.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Simple Monohybrid  Cr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Dihybrid Cross : Principle of Independent Asso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1" descr="p91"/>
          <p:cNvPicPr/>
          <p:nvPr/>
        </p:nvPicPr>
        <p:blipFill>
          <a:blip r:embed="rId2"/>
          <a:stretch/>
        </p:blipFill>
        <p:spPr>
          <a:xfrm>
            <a:off x="2914560" y="0"/>
            <a:ext cx="622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711360" y="1523880"/>
            <a:ext cx="77724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tween the genotype and the phenotype of an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probability is used to predict the results of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unnett square to predict the results of monohybrid and dihybrid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a testcross is used to show the genotype of an individual whose phenotype expresses the dominant tr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monohybrid cross from a dihybrid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380880" y="1066680"/>
            <a:ext cx="8763120" cy="74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Principles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rigin of Gen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Mendel’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Mendel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E. Mendel’s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.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. Simple Monohybrid 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1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2. Incomplete Domi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3. 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. Dihybrid Cross : Principle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endel was able to control how his pea plants were pollinated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eps in Mendel’s experiments on true-breeding garden pea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dominant and recessive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laws of heredity that were developed from Mendel’s work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endel’s results can be explained by scientific knowledge of genes and chrom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regor Mend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663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how characteristics are transmitted from parents to offspring is cal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tic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rsonal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ndel’s Garden Pea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 observed characteristics of pea plan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genetically determined variants of a characteristic (like hair color or eye color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aracteristic occurred in two contrasting traits (one from each parent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7" name="Picture 12" descr=""/>
          <p:cNvPicPr/>
          <p:nvPr/>
        </p:nvPicPr>
        <p:blipFill>
          <a:blip r:embed="rId2"/>
          <a:stretch/>
        </p:blipFill>
        <p:spPr>
          <a:xfrm>
            <a:off x="7091280" y="0"/>
            <a:ext cx="201924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637760" cy="3276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3"/>
          <a:stretch/>
        </p:blipFill>
        <p:spPr>
          <a:xfrm>
            <a:off x="3276720" y="3276720"/>
            <a:ext cx="5476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regor Mende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endel’s Method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del us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oss-poll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chniques in which pollen is transferred between flowers of two different plan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del bred plants for several generations that were true-breeding for specific traits and called these the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P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pring of the P generation were called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pring of th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eneration were called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Steps of Mendel’s Experim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3" descr="p84"/>
          <p:cNvPicPr/>
          <p:nvPr/>
        </p:nvPicPr>
        <p:blipFill>
          <a:blip r:embed="rId2"/>
          <a:stretch/>
        </p:blipFill>
        <p:spPr>
          <a:xfrm>
            <a:off x="533520" y="1828800"/>
            <a:ext cx="8076960" cy="40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ndel’s Results and Conclus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essive and Dominant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 concluded that inherited characteristics are controll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wo facto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occur in pair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mi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rait that masked the other, like Purpl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ess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rait that was masked, like whi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Law of Segreg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that a pair of factors is segregated, or separated, during the formation of gametes.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remember homologous chromosomes separate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0-11-29T15:11:15Z</dcterms:modified>
  <cp:revision>792</cp:revision>
  <dc:subject/>
  <dc:title>No Slide Title</dc:title>
</cp:coreProperties>
</file>